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E4A-C2C5-42BD-887D-A64DBF28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773-7934-4B88-860D-E7DACD2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047-AE1A-41E3-8513-EFEFF624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BD7-1F4B-4CE6-9C53-45886CC7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FD3-1B3E-4AAC-B1A2-FA43DEF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106-82A8-44DD-995E-1AD73190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772-3157-4DAF-821D-2349A14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9FC-06EA-421F-B790-BA98426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3A4-93F2-41E6-BAB5-73F19A3E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E82-35F8-42E9-82E3-235B522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E62-CCDA-4951-97E2-B99FEBE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76B-77FE-47E2-B7D2-B4013867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3FF4-E5B8-415E-AC11-8726F0ED1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1523880"/>
            <a:ext cx="66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28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77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571500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9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7239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5438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75438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114800"/>
            <a:ext cx="1852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3059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1:36Z</dcterms:modified>
  <cp:revision>210</cp:revision>
  <dc:subject/>
  <dc:title>Slide 1</dc:title>
</cp:coreProperties>
</file>